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scooby_doo_laugh.wav" ContentType="audio/x-wav"/>
  <Override PartName="/ppt/media/image20.jpeg" ContentType="image/jpeg"/>
  <Override PartName="/ppt/media/cow_2.wav" ContentType="audio/x-wav"/>
  <Override PartName="/ppt/media/image19.jpeg" ContentType="image/jpeg"/>
  <Override PartName="/ppt/media/cow.wav" ContentType="audio/x-wav"/>
  <Override PartName="/ppt/media/image18.jpeg" ContentType="image/jpeg"/>
  <Override PartName="/ppt/media/image15.png" ContentType="image/png"/>
  <Override PartName="/ppt/media/oh_no.wav" ContentType="audio/x-wav"/>
  <Override PartName="/ppt/media/image17.jpeg" ContentType="image/jpeg"/>
  <Override PartName="/ppt/media/image1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9.png" ContentType="image/png"/>
  <Override PartName="/ppt/media/image23.jpeg" ContentType="image/jpeg"/>
  <Override PartName="/ppt/media/image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6.jpeg" ContentType="image/jpeg"/>
  <Override PartName="/ppt/media/bunny_awful.wav" ContentType="audio/x-wav"/>
  <Override PartName="/ppt/media/image27.jpeg" ContentType="image/jpeg"/>
  <Override PartName="/ppt/media/image6.jpeg" ContentType="image/jpeg"/>
  <Override PartName="/ppt/media/applause.wav" ContentType="audio/x-wav"/>
  <Override PartName="/ppt/media/cow_3.wav" ContentType="audio/x-wav"/>
  <Override PartName="/ppt/media/image30.jpeg" ContentType="image/jpeg"/>
  <Override PartName="/ppt/media/image3.jpeg" ContentType="image/jpeg"/>
  <Override PartName="/ppt/media/image33.gif" ContentType="image/gif"/>
  <Override PartName="/ppt/media/image28.png" ContentType="image/png"/>
  <Override PartName="/ppt/media/image7.jpeg" ContentType="image/jpeg"/>
  <Override PartName="/ppt/media/image5.jpeg" ContentType="image/jpeg"/>
  <Override PartName="/ppt/media/awh_man.wav" ContentType="audio/x-wav"/>
  <Override PartName="/ppt/media/image13.jpeg" ContentType="image/jpeg"/>
  <Override PartName="/ppt/media/image11.jpeg" ContentType="image/jpeg"/>
  <Override PartName="/ppt/media/image34.png" ContentType="image/png"/>
  <Override PartName="/ppt/media/image1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522-B9D5-4587-9B76-8430478D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4BC-BDC6-4638-8A92-737A1600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B9F-A672-4D79-AF42-C08D0756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A69-6428-4E9C-A88A-815DCB5F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F853-062B-4E94-930C-CC0C02A7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B31F-EA4E-4196-BD41-D85912AB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5D48-8999-4622-BB94-5108A387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0922-A1AD-48ED-84C2-C970D2D2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EBD6-0F66-401D-BBC9-B2C379C2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7D70-C0E2-47F4-B258-26A9BDE4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37A6-B24F-4BBC-A002-3045AEB3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0B0-AF70-4AA2-A861-2153BAD5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ED1F-076F-4ED9-AD6C-8C2EE2B1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3945-75A6-45A7-87C9-E7C94105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0F32-88D5-4F9B-851F-7199A46E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7B7D-7A35-4B2A-B4EC-6570EFEC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561C-FF81-4B95-91B9-B1E4CBEC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109-5283-4A7D-A68F-AB26F101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1AF-04F4-4B5A-B264-5EB7AD88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846-3ACC-40DD-9E13-4B753755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91D-B276-45C8-8DDD-CBFD1AE4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FA5-5C8B-4BD3-B7E9-E0274A4E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688-03CE-4BBD-B607-CE1E5E14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998-B4AD-4BF8-AA9D-14CB893C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1EDC-9837-4683-BB48-0BB02C56AC9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BE50-9719-4D03-BA2F-339B12BB744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awh_ma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audio" Target="../media/bunny_awfu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file:///tmp/home/.config/libreoffice/4/user/gallery/bunny_awful.wav" TargetMode="External"/><Relationship Id="rId3" Type="http://schemas.microsoft.com/office/2007/relationships/media" Target="file:///tmp/home/.config/libreoffice/4/user/gallery/bunny_awful.wav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www.dansmc.com/spnorm.jpg&amp;imgrefurl=http://www.dansmc.com/sparkplugs1.htm&amp;h=445&amp;w=578&amp;sz=58&amp;tbnid=jvhCGCbL8GoJ:&amp;tbnh=101&amp;tbnw=132&amp;hl=en&amp;start=2&amp;prev=/images%3Fq%3Dspark%2Bplugs%26svnum%3D10%26hl%3Den%26lr%3D%26rls%3DRNWE,RNWE:2004-52,RNWE:en%26sa%3DG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gif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ow_2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ow_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ow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oh_no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oudy Stout"/>
              </a:rPr>
              <a:t>TYPES OF ENERG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34" descr="Energy1"/>
          <p:cNvPicPr/>
          <p:nvPr/>
        </p:nvPicPr>
        <p:blipFill>
          <a:blip r:embed="rId1"/>
          <a:stretch/>
        </p:blipFill>
        <p:spPr>
          <a:xfrm>
            <a:off x="5281560" y="304920"/>
            <a:ext cx="3767040" cy="6248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5"/>
          <p:cNvSpPr/>
          <p:nvPr/>
        </p:nvSpPr>
        <p:spPr>
          <a:xfrm>
            <a:off x="152280" y="3084480"/>
            <a:ext cx="4803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Mechanical, Electromagnetic, Electric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Chemical and 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 is transported to your house through power lin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en you plug an electric fan to a power outlet, electrical energy is transform into what type of energ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228600" y="990720"/>
            <a:ext cx="2286000" cy="5638680"/>
            <a:chOff x="228600" y="990720"/>
            <a:chExt cx="2286000" cy="5638680"/>
          </a:xfrm>
        </p:grpSpPr>
        <p:pic>
          <p:nvPicPr>
            <p:cNvPr id="126" name="Picture 8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Electric4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860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wh_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energy transformation occurs when an electric lamp is turned 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228600" y="990720"/>
            <a:ext cx="2276640" cy="5715000"/>
            <a:chOff x="228600" y="990720"/>
            <a:chExt cx="2276640" cy="5715000"/>
          </a:xfrm>
        </p:grpSpPr>
        <p:pic>
          <p:nvPicPr>
            <p:cNvPr id="132" name="Picture 4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9" descr="Electric6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76640" cy="289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nny_awf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and Therm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(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Berlin Sans FB Demi"/>
              </a:rPr>
              <a:t>Don’t forget friction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thermal2"/>
          <p:cNvPicPr/>
          <p:nvPr/>
        </p:nvPicPr>
        <p:blipFill>
          <a:blip r:embed="rId1"/>
          <a:stretch/>
        </p:blipFill>
        <p:spPr>
          <a:xfrm>
            <a:off x="457200" y="129528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hemical5"/>
          <p:cNvPicPr/>
          <p:nvPr/>
        </p:nvPicPr>
        <p:blipFill>
          <a:blip r:embed="rId1"/>
          <a:stretch/>
        </p:blipFill>
        <p:spPr>
          <a:xfrm>
            <a:off x="1828800" y="1066680"/>
            <a:ext cx="5410080" cy="449604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ical, Mechanical 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remotecontrol"/>
          <p:cNvPicPr/>
          <p:nvPr/>
        </p:nvPicPr>
        <p:blipFill>
          <a:blip r:embed="rId1"/>
          <a:stretch/>
        </p:blipFill>
        <p:spPr>
          <a:xfrm>
            <a:off x="1752480" y="990720"/>
            <a:ext cx="5562720" cy="441936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  (yummy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tomato"/>
          <p:cNvPicPr/>
          <p:nvPr/>
        </p:nvPicPr>
        <p:blipFill>
          <a:blip r:embed="rId1"/>
          <a:stretch/>
        </p:blipFill>
        <p:spPr>
          <a:xfrm>
            <a:off x="2057400" y="1173240"/>
            <a:ext cx="4952880" cy="426060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5638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Therm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Electric5"/>
          <p:cNvPicPr/>
          <p:nvPr/>
        </p:nvPicPr>
        <p:blipFill>
          <a:blip r:embed="rId1"/>
          <a:stretch/>
        </p:blipFill>
        <p:spPr>
          <a:xfrm>
            <a:off x="2133720" y="1066680"/>
            <a:ext cx="48006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Pontiac-Solstice-013"/>
          <p:cNvPicPr/>
          <p:nvPr/>
        </p:nvPicPr>
        <p:blipFill>
          <a:blip r:embed="rId1"/>
          <a:stretch/>
        </p:blipFill>
        <p:spPr>
          <a:xfrm>
            <a:off x="-914400" y="-990720"/>
            <a:ext cx="10850400" cy="8139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w a flow map showing the flow of energy transformations in a car from starting vehicle to driving.  You should have 5 different types of energy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52280" y="-304920"/>
            <a:ext cx="152280" cy="15264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203904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8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85R589"/>
          <p:cNvPicPr/>
          <p:nvPr/>
        </p:nvPicPr>
        <p:blipFill>
          <a:blip r:embed="rId1"/>
          <a:stretch/>
        </p:blipFill>
        <p:spPr>
          <a:xfrm>
            <a:off x="2514600" y="2286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nergy Transfer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2" name="Picture 4" descr="Car headlights BBC"/>
          <p:cNvPicPr/>
          <p:nvPr/>
        </p:nvPicPr>
        <p:blipFill>
          <a:blip r:embed="rId2"/>
          <a:stretch/>
        </p:blipFill>
        <p:spPr>
          <a:xfrm>
            <a:off x="3048120" y="5029200"/>
            <a:ext cx="2133360" cy="127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spno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048120"/>
            <a:ext cx="1257480" cy="961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ar-battery"/>
          <p:cNvPicPr/>
          <p:nvPr/>
        </p:nvPicPr>
        <p:blipFill>
          <a:blip r:embed="rId5"/>
          <a:stretch/>
        </p:blipFill>
        <p:spPr>
          <a:xfrm>
            <a:off x="228600" y="2666880"/>
            <a:ext cx="1724040" cy="16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Car%20animation"/>
          <p:cNvPicPr/>
          <p:nvPr/>
        </p:nvPicPr>
        <p:blipFill>
          <a:blip r:embed="rId6"/>
          <a:stretch/>
        </p:blipFill>
        <p:spPr>
          <a:xfrm>
            <a:off x="5524560" y="2666880"/>
            <a:ext cx="3619440" cy="2208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291240" y="4230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966680" y="3087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 rot="20101800">
            <a:off x="1068480" y="1980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 rot="1882200">
            <a:off x="1524240" y="48794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6081840" y="118260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echan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395680" y="5373720"/>
            <a:ext cx="27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lectromagne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643200" y="25542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031000" y="28195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1600200" y="22093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752480" y="41148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5791320" y="2057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5257800" y="6248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4952880" y="3276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2" descr=""/>
          <p:cNvPicPr/>
          <p:nvPr/>
        </p:nvPicPr>
        <p:blipFill>
          <a:blip r:embed="rId7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3" descr=""/>
          <p:cNvPicPr/>
          <p:nvPr/>
        </p:nvPicPr>
        <p:blipFill>
          <a:blip r:embed="rId8"/>
          <a:stretch/>
        </p:blipFill>
        <p:spPr>
          <a:xfrm>
            <a:off x="-60948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cars007.wav" descr=""/>
          <p:cNvPicPr/>
          <p:nvPr/>
        </p:nvPicPr>
        <p:blipFill>
          <a:blip r:embed="rId9"/>
          <a:stretch/>
        </p:blipFill>
        <p:spPr>
          <a:xfrm>
            <a:off x="-53352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2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54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5256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894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due to a object’s motion (kinetic) or position (potential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bowling ball has mechanical energy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When the ball strikes the pins, mechanical energy is transferred to the pin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Mechenergy1"/>
          <p:cNvPicPr/>
          <p:nvPr/>
        </p:nvPicPr>
        <p:blipFill>
          <a:blip r:embed="rId1"/>
          <a:stretch/>
        </p:blipFill>
        <p:spPr>
          <a:xfrm>
            <a:off x="5105520" y="1371600"/>
            <a:ext cx="3867120" cy="4952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xamples of Mechanical Energ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1" name="Picture 12" descr="Mechenergy3"/>
          <p:cNvPicPr/>
          <p:nvPr/>
        </p:nvPicPr>
        <p:blipFill>
          <a:blip r:embed="rId1"/>
          <a:stretch/>
        </p:blipFill>
        <p:spPr>
          <a:xfrm>
            <a:off x="152280" y="1219320"/>
            <a:ext cx="4114800" cy="2666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2" name="Picture 13" descr="Mechenergy4"/>
          <p:cNvPicPr/>
          <p:nvPr/>
        </p:nvPicPr>
        <p:blipFill>
          <a:blip r:embed="rId2"/>
          <a:stretch/>
        </p:blipFill>
        <p:spPr>
          <a:xfrm>
            <a:off x="152280" y="3962520"/>
            <a:ext cx="4114800" cy="271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3" name="Picture 14" descr="Mechenergy5"/>
          <p:cNvPicPr/>
          <p:nvPr/>
        </p:nvPicPr>
        <p:blipFill>
          <a:blip r:embed="rId3"/>
          <a:stretch/>
        </p:blipFill>
        <p:spPr>
          <a:xfrm>
            <a:off x="4343400" y="1219320"/>
            <a:ext cx="4646520" cy="5486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omagnet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2520" y="1904760"/>
            <a:ext cx="5029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Ligh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Includes energy from gamma rays, xrays, ultraviolet rays, visible light, infrared rays, microwave and radio ban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Emagenergy4"/>
          <p:cNvPicPr/>
          <p:nvPr/>
        </p:nvPicPr>
        <p:blipFill>
          <a:blip r:embed="rId1"/>
          <a:stretch/>
        </p:blipFill>
        <p:spPr>
          <a:xfrm>
            <a:off x="762120" y="1143000"/>
            <a:ext cx="2369880" cy="2895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8" name="Picture 7" descr="Emagenergy3"/>
          <p:cNvPicPr/>
          <p:nvPr/>
        </p:nvPicPr>
        <p:blipFill>
          <a:blip r:embed="rId2"/>
          <a:stretch/>
        </p:blipFill>
        <p:spPr>
          <a:xfrm>
            <a:off x="228600" y="4114800"/>
            <a:ext cx="3809880" cy="2590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caused by    the movement of electr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asily transported through power lines and converted into other forms of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lectric2"/>
          <p:cNvPicPr/>
          <p:nvPr/>
        </p:nvPicPr>
        <p:blipFill>
          <a:blip r:embed="rId1"/>
          <a:stretch/>
        </p:blipFill>
        <p:spPr>
          <a:xfrm>
            <a:off x="5029200" y="175248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Chem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5105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that is available for release from chemical reaction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chemical bonds in a matchstick store energy that is transformed into thermal energy when the match is struck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hemical1"/>
          <p:cNvPicPr/>
          <p:nvPr/>
        </p:nvPicPr>
        <p:blipFill>
          <a:blip r:embed="rId1"/>
          <a:stretch/>
        </p:blipFill>
        <p:spPr>
          <a:xfrm>
            <a:off x="152280" y="2057400"/>
            <a:ext cx="4114800" cy="335772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Examples of Chemical Energ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9" name="Picture 7" descr="coal"/>
          <p:cNvPicPr/>
          <p:nvPr/>
        </p:nvPicPr>
        <p:blipFill>
          <a:blip r:embed="rId1"/>
          <a:stretch/>
        </p:blipFill>
        <p:spPr>
          <a:xfrm>
            <a:off x="304920" y="1295280"/>
            <a:ext cx="3581280" cy="2465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0" name="Picture 13" descr="Chemical4"/>
          <p:cNvPicPr/>
          <p:nvPr/>
        </p:nvPicPr>
        <p:blipFill>
          <a:blip r:embed="rId2"/>
          <a:stretch/>
        </p:blipFill>
        <p:spPr>
          <a:xfrm>
            <a:off x="4343400" y="1295280"/>
            <a:ext cx="4533840" cy="5410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1" name="Picture 15" descr="chemical3"/>
          <p:cNvPicPr/>
          <p:nvPr/>
        </p:nvPicPr>
        <p:blipFill>
          <a:blip r:embed="rId3"/>
          <a:stretch/>
        </p:blipFill>
        <p:spPr>
          <a:xfrm>
            <a:off x="1219320" y="3886200"/>
            <a:ext cx="1517400" cy="2781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Therm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8120" y="1066680"/>
            <a:ext cx="5943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Hea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The heat energy of an object determines how active its atoms ar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hot object is one whose atoms and molecules are excited and show rapid mov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cooler object's molecules and atoms will show less movement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hermal3"/>
          <p:cNvPicPr/>
          <p:nvPr/>
        </p:nvPicPr>
        <p:blipFill>
          <a:blip r:embed="rId1"/>
          <a:stretch/>
        </p:blipFill>
        <p:spPr>
          <a:xfrm>
            <a:off x="0" y="990720"/>
            <a:ext cx="3048120" cy="2570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Thermal4"/>
          <p:cNvPicPr/>
          <p:nvPr/>
        </p:nvPicPr>
        <p:blipFill>
          <a:blip r:embed="rId2"/>
          <a:stretch/>
        </p:blipFill>
        <p:spPr>
          <a:xfrm>
            <a:off x="0" y="3657600"/>
            <a:ext cx="2971800" cy="275580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cooks food in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the spinning plate inside of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Emagenergy2"/>
          <p:cNvPicPr/>
          <p:nvPr/>
        </p:nvPicPr>
        <p:blipFill>
          <a:blip r:embed="rId1"/>
          <a:stretch/>
        </p:blipFill>
        <p:spPr>
          <a:xfrm>
            <a:off x="5410080" y="914400"/>
            <a:ext cx="3505320" cy="231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magenergy5"/>
          <p:cNvPicPr/>
          <p:nvPr/>
        </p:nvPicPr>
        <p:blipFill>
          <a:blip r:embed="rId2"/>
          <a:stretch/>
        </p:blipFill>
        <p:spPr>
          <a:xfrm>
            <a:off x="5638680" y="3614760"/>
            <a:ext cx="2971800" cy="28116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h_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22:39:07Z</dcterms:created>
  <dc:creator>TINA SHUTTY</dc:creator>
  <dc:description/>
  <dc:language>en-US</dc:language>
  <cp:lastModifiedBy>Asus</cp:lastModifiedBy>
  <dcterms:modified xsi:type="dcterms:W3CDTF">2018-03-09T16:19:55Z</dcterms:modified>
  <cp:revision>18</cp:revision>
  <dc:subject/>
  <dc:title>TYPES OF ENER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